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B4F0-7D52-4062-BBBE-7C2D7445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3008-5910-48E3-ACDA-5B433C6F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39C-AE03-4CE1-8A63-63CB4B22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36A-FD8F-44EF-939D-A54D82F8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7E00-5C58-4906-B77C-FD464E52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A618-760F-448E-9556-025D5259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C265-FC15-4E63-8ADB-4062FC2E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B7C8-63B8-4746-B21B-B4C1BA56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993A-806A-48DF-A770-65B4CF96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5DB8-58FE-4307-8CC2-32AF70CE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99A1-C7C4-4B7D-BC04-646F522E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3E1C-010B-4BE6-981C-66DF6E50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D8C8-A7B3-47AD-8476-FD6B33C7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56A9-1574-476F-A9D4-FB751DDD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3F1D-DDA3-497B-9AC0-26673B21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5FE1-CF05-4EDA-99F3-76C2ACEB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AC37-15F9-4BBF-883F-9055FC42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01FC-66A4-44D5-8EC5-0D2DC8C6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7A5-30E6-438F-A83E-8E998145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426-B6B1-4B0F-8597-2DF7B548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5CB-EE40-4BE1-9A8C-37BCD73B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9DB-EB4B-48F3-8E23-7CB74F19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D554-B155-467B-BA19-830EB362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32C6-47FB-4F62-B147-697A4AF1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f1e"/>
              </a:gs>
              <a:gs pos="50000">
                <a:srgbClr val="0099cc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000f1e"/>
              </a:gs>
              <a:gs pos="50000">
                <a:srgbClr val="003366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000f1e"/>
              </a:gs>
              <a:gs pos="50000">
                <a:srgbClr val="003366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003366"/>
              </a:gs>
              <a:gs pos="50000">
                <a:srgbClr val="000f1e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FE3C-3E0A-4DDF-913E-A9C0609D5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f1e"/>
              </a:gs>
              <a:gs pos="50000">
                <a:srgbClr val="0099cc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000f1e"/>
              </a:gs>
              <a:gs pos="50000">
                <a:srgbClr val="003366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000f1e"/>
              </a:gs>
              <a:gs pos="50000">
                <a:srgbClr val="003366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003366"/>
              </a:gs>
              <a:gs pos="50000">
                <a:srgbClr val="000f1e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C01C-6B1B-40D9-B558-1A4AD8253E0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Pronouns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Grade Gramm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nouns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nouns are words that take the place of nou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onoun must agree with the noun it repla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, she, I, you, and it are pronouns that take the place of singular nou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nouns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Dav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has a dollar. 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H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has a doll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haro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ill take us to the park. 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h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ill take us to the par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The book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 on the table.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I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 on the ta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nouns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nouns we, you, and they can take the place of plural nou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 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” when you are speaking of yourself and another person (Katie and I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 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” when you are speaking of two people not including yourself (Nathan and Dakota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nouns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a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ell out of his chair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ell out of his chai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ne and 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nt to the store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nt to the sto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do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n into the street.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n into the stre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ppl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e good for you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e good for yo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si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oved to a new house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oved to a new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o and R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ve close to me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ve close to 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768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768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8:13:25Z</dcterms:created>
  <dc:creator>GCSD</dc:creator>
  <dc:description/>
  <dc:language>en-US</dc:language>
  <cp:lastModifiedBy>teacher</cp:lastModifiedBy>
  <cp:lastPrinted>2005-02-16T18:37:08Z</cp:lastPrinted>
  <dcterms:modified xsi:type="dcterms:W3CDTF">2011-02-07T01:14:39Z</dcterms:modified>
  <cp:revision>5</cp:revision>
  <dc:subject/>
  <dc:title>Pronouns</dc:title>
</cp:coreProperties>
</file>